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4.jpeg" ContentType="image/jpeg"/>
  <Override PartName="/ppt/media/image2.png" ContentType="image/png"/>
  <Override PartName="/ppt/media/image5.jpeg" ContentType="image/jpeg"/>
  <Override PartName="/ppt/media/image28.jpeg" ContentType="image/jpeg"/>
  <Override PartName="/ppt/media/image7.jpeg" ContentType="image/jpeg"/>
  <Override PartName="/ppt/media/image12.jpeg" ContentType="image/jpeg"/>
  <Override PartName="/ppt/media/image13.png" ContentType="image/png"/>
  <Override PartName="/ppt/media/image6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8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1.png" ContentType="image/png"/>
  <Override PartName="/ppt/media/image10.jpeg" ContentType="image/jpeg"/>
  <Override PartName="/ppt/media/image14.png" ContentType="image/png"/>
  <Override PartName="/ppt/media/image15.jpeg" ContentType="image/jpeg"/>
  <Override PartName="/ppt/media/image16.jpeg" ContentType="image/jpeg"/>
  <Override PartName="/ppt/media/image17.jpeg" ContentType="image/jpeg"/>
  <Override PartName="/ppt/media/image26.png" ContentType="image/png"/>
  <Override PartName="/ppt/media/image18.jpeg" ContentType="image/jpeg"/>
  <Override PartName="/ppt/media/image25.png" ContentType="image/png"/>
  <Override PartName="/ppt/media/image19.jpeg" ContentType="image/jpeg"/>
  <Override PartName="/ppt/media/image20.jpeg" ContentType="image/jpeg"/>
  <Override PartName="/ppt/media/image21.jpeg" ContentType="image/jpeg"/>
  <Override PartName="/ppt/media/image22.jpeg" ContentType="image/jpeg"/>
  <Override PartName="/ppt/media/image2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47C5F-CC27-4090-B2E5-BC9859D62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D1B9F-97EB-4F77-AB3C-3DDBFC57A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1ED8D-BB2A-4C5E-B418-BDDA4B43B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9B0C3-1199-4A09-A78D-F334D5512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AEA20-D542-42A0-A694-72262BD19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61330-BE88-4FDB-85A4-88797AFBE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85544-1406-4EBA-8735-3CC17AB36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0CAF7-4128-4E34-A3CA-A0B120B8C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6BEDB-334C-4BA6-B3B0-44B52B323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8909B-CBFA-4D47-8C02-7F89C7FFD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893F1-F1B6-4B85-997D-091783294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4481A-4F25-447D-A799-4A17A6598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28E1F-B637-4D55-AD34-23607F3E34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image" Target="../media/image21.jpeg"/><Relationship Id="rId8" Type="http://schemas.openxmlformats.org/officeDocument/2006/relationships/slideLayout" Target="../slideLayouts/slideLayout1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png"/><Relationship Id="rId6" Type="http://schemas.openxmlformats.org/officeDocument/2006/relationships/image" Target="../media/image25.png"/><Relationship Id="rId7" Type="http://schemas.openxmlformats.org/officeDocument/2006/relationships/image" Target="../media/image26.png"/><Relationship Id="rId8" Type="http://schemas.openxmlformats.org/officeDocument/2006/relationships/image" Target="../media/image26.png"/><Relationship Id="rId9" Type="http://schemas.openxmlformats.org/officeDocument/2006/relationships/image" Target="../media/image27.png"/><Relationship Id="rId10" Type="http://schemas.openxmlformats.org/officeDocument/2006/relationships/image" Target="../media/image27.png"/><Relationship Id="rId11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8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0592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еверо - Казахстанская область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йон М.Жумабаева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. Чистовское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333399"/>
                </a:solidFill>
                <a:latin typeface="Arial"/>
              </a:rPr>
              <a:t>Звук [и]. Буква И, и</a:t>
            </a:r>
            <a:r>
              <a:rPr b="0" i="1" lang="ru-RU" sz="5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Урок по обучению грамоте 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1 класс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Учитель: Краюшкина О.В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016-2017 уч.г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828800" y="304920"/>
            <a:ext cx="578340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0" y="1028880"/>
            <a:ext cx="9144000" cy="458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0" y="177840"/>
            <a:ext cx="9144000" cy="60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WordArt 2"/>
          <p:cNvSpPr txBox="1"/>
          <p:nvPr/>
        </p:nvSpPr>
        <p:spPr>
          <a:xfrm>
            <a:off x="1187280" y="260280"/>
            <a:ext cx="2664000" cy="302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И</a:t>
            </a:r>
            <a:endParaRPr b="1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55" name="WordArt 3"/>
          <p:cNvSpPr txBox="1"/>
          <p:nvPr/>
        </p:nvSpPr>
        <p:spPr>
          <a:xfrm>
            <a:off x="5076720" y="333360"/>
            <a:ext cx="2087640" cy="266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Book Antiqua"/>
              </a:rPr>
              <a:t>И</a:t>
            </a:r>
            <a:endParaRPr b="1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Book Antiqua"/>
              <a:ea typeface="Book Antiqua"/>
            </a:endParaRPr>
          </a:p>
        </p:txBody>
      </p:sp>
      <p:sp>
        <p:nvSpPr>
          <p:cNvPr id="56" name="WordArt 4"/>
          <p:cNvSpPr txBox="1"/>
          <p:nvPr/>
        </p:nvSpPr>
        <p:spPr>
          <a:xfrm>
            <a:off x="3924360" y="3645000"/>
            <a:ext cx="2087640" cy="26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Georgia"/>
              </a:rPr>
              <a:t>и</a:t>
            </a:r>
            <a:endParaRPr b="1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Georgia"/>
              <a:ea typeface="Georgia"/>
            </a:endParaRPr>
          </a:p>
        </p:txBody>
      </p:sp>
      <p:sp>
        <p:nvSpPr>
          <p:cNvPr id="57" name="WordArt 5"/>
          <p:cNvSpPr txBox="1"/>
          <p:nvPr/>
        </p:nvSpPr>
        <p:spPr>
          <a:xfrm>
            <a:off x="7236000" y="3500280"/>
            <a:ext cx="1511280" cy="17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990000"/>
                </a:solidFill>
                <a:latin typeface="Century Gothic"/>
              </a:rPr>
              <a:t>и</a:t>
            </a:r>
            <a:endParaRPr b="1" i="1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990000"/>
              </a:solidFill>
              <a:latin typeface="Century Gothic"/>
              <a:ea typeface="Century Gothic"/>
            </a:endParaRPr>
          </a:p>
        </p:txBody>
      </p:sp>
      <p:sp>
        <p:nvSpPr>
          <p:cNvPr id="58" name="WordArt 6"/>
          <p:cNvSpPr txBox="1"/>
          <p:nvPr/>
        </p:nvSpPr>
        <p:spPr>
          <a:xfrm>
            <a:off x="826920" y="4076640"/>
            <a:ext cx="172908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3399"/>
                </a:solidFill>
                <a:latin typeface="Times New Roman"/>
              </a:rPr>
              <a:t>и</a:t>
            </a:r>
            <a:endParaRPr b="1" i="1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ff3399"/>
              </a:solidFill>
              <a:latin typeface="Times New Roman"/>
              <a:ea typeface="Times New Roman"/>
            </a:endParaRPr>
          </a:p>
        </p:txBody>
      </p:sp>
      <p:sp>
        <p:nvSpPr>
          <p:cNvPr id="59" name="Text Box 7"/>
          <p:cNvSpPr/>
          <p:nvPr/>
        </p:nvSpPr>
        <p:spPr>
          <a:xfrm>
            <a:off x="6163200" y="6613560"/>
            <a:ext cx="2980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Посмотри, сколько буковок!!! И это все буквы 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0" y="228600"/>
            <a:ext cx="91440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0" y="76320"/>
            <a:ext cx="9144000" cy="67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228600"/>
            <a:ext cx="2895480" cy="21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3352680" y="577800"/>
            <a:ext cx="2743200" cy="19684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3654360" y="3809880"/>
            <a:ext cx="1606680" cy="22640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571680" y="304920"/>
            <a:ext cx="2361960" cy="236196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6146640" y="0"/>
            <a:ext cx="2997360" cy="29973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6"/>
          <a:stretch/>
        </p:blipFill>
        <p:spPr>
          <a:xfrm>
            <a:off x="6095880" y="3809880"/>
            <a:ext cx="3048120" cy="20196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7"/>
          <a:stretch/>
        </p:blipFill>
        <p:spPr>
          <a:xfrm>
            <a:off x="457200" y="3483000"/>
            <a:ext cx="266688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99"/>
                </a:solidFill>
                <a:latin typeface="Arial"/>
              </a:rPr>
              <a:t>Подбери слова к картинка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3733920" y="160020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228600" y="1295280"/>
            <a:ext cx="3200400" cy="27529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6400800" y="1447920"/>
            <a:ext cx="2446200" cy="213336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 txBox="1"/>
          <p:nvPr/>
        </p:nvSpPr>
        <p:spPr>
          <a:xfrm>
            <a:off x="609480" y="4800600"/>
            <a:ext cx="198144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ис</a:t>
            </a:r>
            <a:endParaRPr b="0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3962520" y="4800600"/>
            <a:ext cx="1752480" cy="80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ит</a:t>
            </a:r>
            <a:endParaRPr b="0" lang="en-US" sz="1800" spc="1" strike="noStrike">
              <a:ln w="0">
                <a:noFill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6781680" y="4800600"/>
            <a:ext cx="175284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9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лис</a:t>
            </a:r>
            <a:endParaRPr b="0" lang="en-US" sz="1800" spc="1" strike="noStrike">
              <a:ln w="0">
                <a:noFill/>
              </a:ln>
              <a:blipFill rotWithShape="0">
                <a:blip r:embed="rId10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Артикуляция звука [и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99"/>
                </a:solidFill>
                <a:latin typeface="Arial"/>
              </a:rPr>
              <a:t>губы улыбаются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99"/>
                </a:solidFill>
                <a:latin typeface="Arial"/>
              </a:rPr>
              <a:t>язык упирается в нижние зубы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99"/>
                </a:solidFill>
                <a:latin typeface="Arial"/>
              </a:rPr>
              <a:t>воздух свободно проходит через рот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9999"/>
                </a:solidFill>
                <a:latin typeface="Arial"/>
              </a:rPr>
              <a:t>Произношение зву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1447920" y="1066680"/>
            <a:ext cx="6095880" cy="3648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Игра 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"Узнай букву"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23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Сколько слогов? 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Какой первый слог?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Сколько в нем звуков?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Какой второй слог?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Сколько в нем звуков?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Сколько всего звуков?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cc00ff"/>
                </a:solidFill>
                <a:latin typeface="Arial"/>
              </a:rPr>
              <a:t>На какой слог падает ударение?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Назовите ударный гласный.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Какой первый гласный звук в словах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иголка и нитк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?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Дайте характеристику звуку [и]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4572000" y="2666880"/>
            <a:ext cx="4038480" cy="268128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762120" y="3200400"/>
            <a:ext cx="2743200" cy="18162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 txBox="1"/>
          <p:nvPr/>
        </p:nvSpPr>
        <p:spPr>
          <a:xfrm>
            <a:off x="838080" y="4952880"/>
            <a:ext cx="2362320" cy="80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голк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5562720" y="4952880"/>
            <a:ext cx="266688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итк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>
            <a:lum bright="-18000"/>
          </a:blip>
          <a:srcRect l="10109" t="1352" r="11473" b="0"/>
          <a:stretch/>
        </p:blipFill>
        <p:spPr>
          <a:xfrm>
            <a:off x="4788000" y="1413000"/>
            <a:ext cx="4176720" cy="52228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0" y="404640"/>
            <a:ext cx="460836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Покат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лись прямо вн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з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Вправо до небес взв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л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сь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Снова резко вн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з упал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Букву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мы нап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сал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0" y="-5724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1828800" y="1184400"/>
            <a:ext cx="4952880" cy="370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1523880" y="1011240"/>
            <a:ext cx="5639040" cy="42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057400" y="1355760"/>
            <a:ext cx="4495680" cy="33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2286000" y="1447920"/>
            <a:ext cx="4343400" cy="32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981080" y="1278000"/>
            <a:ext cx="5334120" cy="39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2057400" y="1335240"/>
            <a:ext cx="5105520" cy="38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1143000" y="192240"/>
            <a:ext cx="7010280" cy="60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6T18:06:42Z</dcterms:created>
  <dc:creator>Сергей Краюшкин</dc:creator>
  <dc:description/>
  <dc:language>en-US</dc:language>
  <cp:lastModifiedBy>Сергей</cp:lastModifiedBy>
  <dcterms:modified xsi:type="dcterms:W3CDTF">2016-12-13T14:05:10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